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driveby.wav" ContentType="audio/x-wav"/>
  <Override PartName="/ppt/media/laser.wav" ContentType="audio/x-wav"/>
  <Override PartName="/ppt/media/ricochet.wav" ContentType="audio/x-wav"/>
  <Override PartName="/ppt/media/planeflyby.wav" ContentType="audio/x-wav"/>
  <Override PartName="/ppt/media/carbrake.wav" ContentType="audio/x-wav"/>
  <Override PartName="/ppt/media/jetflyby.wav" ContentType="audio/x-wav"/>
  <Override PartName="/ppt/media/zipup202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CDD-4545-4413-B396-8F8BDAF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8CC-A780-49FD-A3A8-352291D7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A7C-904A-4A14-8BE9-0109B519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B34-4FAE-4856-9425-79F44E13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1DD-5B45-4D64-A9FC-2792961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503-995D-4B79-A10C-37C85A9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1BD-8986-438C-8DC9-80745D1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12F-64B6-4CAC-8AC5-446CC22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A34-3C91-4799-877D-F763007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85F-DFFC-49E2-9041-809DA34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C52-567F-4CAA-AA05-6639837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5EB-A191-44FF-BBAB-05B59DB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9A9-0162-40FD-B63D-E59C2309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jetflyby.wav"/><Relationship Id="rId12" Type="http://schemas.openxmlformats.org/officeDocument/2006/relationships/audio" Target="../media/gunshot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carbrake.wav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jetflyby.wav"/><Relationship Id="rId12" Type="http://schemas.openxmlformats.org/officeDocument/2006/relationships/audio" Target="../media/gunshot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carbrake.wav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gunshot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laser.wav"/><Relationship Id="rId15" Type="http://schemas.openxmlformats.org/officeDocument/2006/relationships/audio" Target="../media/driveby.wav"/><Relationship Id="rId16" Type="http://schemas.openxmlformats.org/officeDocument/2006/relationships/audio" Target="../media/gunshot.wav"/><Relationship Id="rId17" Type="http://schemas.openxmlformats.org/officeDocument/2006/relationships/audio" Target="../media/ricochet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8000" y="1600200"/>
                <a:ext cx="34686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818320" y="5257800"/>
                <a:ext cx="2179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181480" y="1600200"/>
                <a:ext cx="2646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410080" y="281952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05320" y="1905120"/>
            <a:ext cx="1600200" cy="459720"/>
            <a:chOff x="3505320" y="1905120"/>
            <a:chExt cx="1600200" cy="459720"/>
          </a:xfrm>
        </p:grpSpPr>
        <p:sp>
          <p:nvSpPr>
            <p:cNvPr id="53" name=""/>
            <p:cNvSpPr/>
            <p:nvPr/>
          </p:nvSpPr>
          <p:spPr>
            <a:xfrm>
              <a:off x="3581280" y="190512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5320" y="1905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18600" y="3124080"/>
            <a:ext cx="5653440" cy="551520"/>
            <a:chOff x="1218600" y="3124080"/>
            <a:chExt cx="5653440" cy="551520"/>
          </a:xfrm>
        </p:grpSpPr>
        <p:cxnSp>
          <p:nvCxnSpPr>
            <p:cNvPr id="56" name=""/>
            <p:cNvCxnSpPr/>
            <p:nvPr/>
          </p:nvCxnSpPr>
          <p:spPr>
            <a:xfrm flipV="1" rot="16200000">
              <a:off x="3884040" y="458640"/>
              <a:ext cx="322920" cy="5653800"/>
            </a:xfrm>
            <a:prstGeom prst="curvedConnector5">
              <a:avLst>
                <a:gd name="adj1" fmla="val -70982"/>
                <a:gd name="adj2" fmla="val 50000"/>
                <a:gd name="adj3" fmla="val -7098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3048120" y="3200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371600" y="4343400"/>
                <a:ext cx="1095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38280" y="4343400"/>
                <a:ext cx="1962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71600" y="4800600"/>
                <a:ext cx="113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52680" y="4800600"/>
                <a:ext cx="1140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0" y="5410080"/>
                <a:ext cx="13222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05320" y="5410080"/>
                <a:ext cx="1141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14600" y="601992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146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809880" y="601992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0988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5562720"/>
                <a:ext cx="1190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34120" y="3733920"/>
                <a:ext cx="320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3809880"/>
                <a:ext cx="824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410080" y="4495680"/>
                <a:ext cx="2014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91520" y="4495680"/>
                <a:ext cx="1144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867280" y="2743200"/>
                <a:ext cx="1505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15200" y="27432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5680" y="1600200"/>
                <a:ext cx="3514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37360" y="5257800"/>
                <a:ext cx="134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10080" y="152388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410080" y="289548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560" y="2133360"/>
            <a:ext cx="5410440" cy="1718640"/>
            <a:chOff x="1447560" y="2133360"/>
            <a:chExt cx="5410440" cy="1718640"/>
          </a:xfrm>
        </p:grpSpPr>
        <p:cxnSp>
          <p:nvCxnSpPr>
            <p:cNvPr id="92" name=""/>
            <p:cNvCxnSpPr/>
            <p:nvPr/>
          </p:nvCxnSpPr>
          <p:spPr>
            <a:xfrm flipV="1" rot="16200000">
              <a:off x="3650040" y="-69480"/>
              <a:ext cx="1005840" cy="5410800"/>
            </a:xfrm>
            <a:prstGeom prst="curvedConnector5">
              <a:avLst>
                <a:gd name="adj1" fmla="val -70927"/>
                <a:gd name="adj2" fmla="val 49996"/>
                <a:gd name="adj3" fmla="val -7092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043800" y="32151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93920" y="434340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38280" y="4343400"/>
                <a:ext cx="1962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17680" y="480060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97320" y="480060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86000" y="5410080"/>
                <a:ext cx="13222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81280" y="5410080"/>
                <a:ext cx="1414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514600" y="601992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809880" y="601992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862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38080" y="5562720"/>
                <a:ext cx="779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334120" y="3733920"/>
                <a:ext cx="320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108920" y="3809880"/>
                <a:ext cx="320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334120" y="4495680"/>
                <a:ext cx="2288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82040" y="4495680"/>
                <a:ext cx="8683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429000" y="1890360"/>
            <a:ext cx="1905120" cy="1236240"/>
            <a:chOff x="3429000" y="1890360"/>
            <a:chExt cx="1905120" cy="1236240"/>
          </a:xfrm>
        </p:grpSpPr>
        <p:sp>
          <p:nvSpPr>
            <p:cNvPr id="115" name=""/>
            <p:cNvSpPr/>
            <p:nvPr/>
          </p:nvSpPr>
          <p:spPr>
            <a:xfrm>
              <a:off x="3581280" y="266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/>
            <p:nvPr/>
          </p:nvCxnSpPr>
          <p:spPr>
            <a:xfrm flipV="1">
              <a:off x="3429000" y="1890360"/>
              <a:ext cx="1753200" cy="805680"/>
            </a:xfrm>
            <a:prstGeom prst="curvedConnector5">
              <a:avLst>
                <a:gd name="adj1" fmla="val 49989"/>
                <a:gd name="adj2" fmla="val 49977"/>
                <a:gd name="adj3" fmla="val 49989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2743200"/>
                <a:ext cx="1457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238880" y="2743200"/>
                <a:ext cx="819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5680" y="1600200"/>
                <a:ext cx="3514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68880" y="5257800"/>
                <a:ext cx="16779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88120" y="1523880"/>
                <a:ext cx="2327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86400" y="2895480"/>
                <a:ext cx="45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7560" y="2133360"/>
            <a:ext cx="5410440" cy="1718640"/>
            <a:chOff x="1447560" y="2133360"/>
            <a:chExt cx="5410440" cy="1718640"/>
          </a:xfrm>
        </p:grpSpPr>
        <p:cxnSp>
          <p:nvCxnSpPr>
            <p:cNvPr id="131" name=""/>
            <p:cNvCxnSpPr/>
            <p:nvPr/>
          </p:nvCxnSpPr>
          <p:spPr>
            <a:xfrm flipV="1" rot="16200000">
              <a:off x="3650040" y="-69480"/>
              <a:ext cx="1005840" cy="5410800"/>
            </a:xfrm>
            <a:prstGeom prst="curvedConnector5">
              <a:avLst>
                <a:gd name="adj1" fmla="val -70927"/>
                <a:gd name="adj2" fmla="val 49996"/>
                <a:gd name="adj3" fmla="val -7092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3800" y="32151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040" y="43434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6320" y="4343400"/>
                <a:ext cx="2006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31800" y="4800600"/>
                <a:ext cx="819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87640" y="5432400"/>
                <a:ext cx="11397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429000" y="541008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225520" y="60418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16240" y="5943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21160" y="604188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87840" y="5943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5562720"/>
                <a:ext cx="779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11800" y="3733920"/>
                <a:ext cx="3251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08920" y="3809880"/>
                <a:ext cx="320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11800" y="4495680"/>
                <a:ext cx="2335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545240" y="4495680"/>
                <a:ext cx="1143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3429000" y="1890360"/>
            <a:ext cx="1905120" cy="1236240"/>
            <a:chOff x="3429000" y="1890360"/>
            <a:chExt cx="1905120" cy="1236240"/>
          </a:xfrm>
        </p:grpSpPr>
        <p:sp>
          <p:nvSpPr>
            <p:cNvPr id="154" name=""/>
            <p:cNvSpPr/>
            <p:nvPr/>
          </p:nvSpPr>
          <p:spPr>
            <a:xfrm>
              <a:off x="3581280" y="266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V="1">
              <a:off x="3429000" y="1890360"/>
              <a:ext cx="1753200" cy="805680"/>
            </a:xfrm>
            <a:prstGeom prst="curvedConnector5">
              <a:avLst>
                <a:gd name="adj1" fmla="val 49989"/>
                <a:gd name="adj2" fmla="val 49977"/>
                <a:gd name="adj3" fmla="val 49989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2743200"/>
                <a:ext cx="1461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15200" y="2743200"/>
                <a:ext cx="868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$13,750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19320" y="2971800"/>
                <a:ext cx="2601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" y="3581280"/>
                <a:ext cx="1003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3581280"/>
                <a:ext cx="13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38280" y="3581280"/>
                <a:ext cx="200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805360" y="2819520"/>
                <a:ext cx="2600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248520" y="3352680"/>
                <a:ext cx="82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618320" y="335268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07080" y="39164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91320" y="4038480"/>
                <a:ext cx="455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002360" y="45259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3200400"/>
            <a:ext cx="1600200" cy="459720"/>
            <a:chOff x="4114800" y="3200400"/>
            <a:chExt cx="1600200" cy="459720"/>
          </a:xfrm>
        </p:grpSpPr>
        <p:sp>
          <p:nvSpPr>
            <p:cNvPr id="172" name=""/>
            <p:cNvSpPr/>
            <p:nvPr/>
          </p:nvSpPr>
          <p:spPr>
            <a:xfrm>
              <a:off x="4190760" y="32004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14800" y="3200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5960" y="4190400"/>
            <a:ext cx="5958000" cy="551160"/>
            <a:chOff x="1065960" y="4190400"/>
            <a:chExt cx="5958000" cy="551160"/>
          </a:xfrm>
        </p:grpSpPr>
        <p:cxnSp>
          <p:nvCxnSpPr>
            <p:cNvPr id="175" name=""/>
            <p:cNvCxnSpPr/>
            <p:nvPr/>
          </p:nvCxnSpPr>
          <p:spPr>
            <a:xfrm flipV="1" rot="16200000">
              <a:off x="3883680" y="1372680"/>
              <a:ext cx="322920" cy="5958360"/>
            </a:xfrm>
            <a:prstGeom prst="curvedConnector5">
              <a:avLst>
                <a:gd name="adj1" fmla="val -70870"/>
                <a:gd name="adj2" fmla="val 50000"/>
                <a:gd name="adj3" fmla="val -70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2993760" y="4267080"/>
              <a:ext cx="28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447920" y="4876920"/>
                <a:ext cx="6116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057400" y="4876920"/>
                <a:ext cx="2146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72200" y="3962520"/>
                <a:ext cx="118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238880" y="3962520"/>
                <a:ext cx="141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$13,750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895480"/>
            <a:ext cx="6116400" cy="777960"/>
            <a:chOff x="1447920" y="2895480"/>
            <a:chExt cx="6116400" cy="77796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1447920" y="2895480"/>
                  <a:ext cx="61164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057400" y="2895480"/>
                  <a:ext cx="2146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66680" y="350532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62320" y="3505320"/>
                <a:ext cx="2008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267080" y="3505320"/>
                <a:ext cx="3330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362320" y="4038480"/>
                <a:ext cx="200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638680" y="3962520"/>
                <a:ext cx="200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447920" y="4648320"/>
            <a:ext cx="6095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0" y="4648320"/>
                <a:ext cx="100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10080" y="4648320"/>
                <a:ext cx="168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64832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00600" y="518148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360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95880" y="5181480"/>
                <a:ext cx="73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29200" y="571500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5715000"/>
                <a:ext cx="1373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0880" y="5410080"/>
                <a:ext cx="3970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752480" y="5486400"/>
                <a:ext cx="912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800600"/>
                <a:ext cx="292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71600" y="6095880"/>
                <a:ext cx="1550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15200" y="6124680"/>
                <a:ext cx="168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2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$16,25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41280" y="2971800"/>
                <a:ext cx="2556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581280"/>
                <a:ext cx="1003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43000" y="3581280"/>
                <a:ext cx="13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16320" y="3581280"/>
                <a:ext cx="205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827680" y="2819520"/>
                <a:ext cx="2554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48520" y="3352680"/>
                <a:ext cx="82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618320" y="335268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707080" y="39164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791320" y="4038480"/>
                <a:ext cx="45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7002360" y="45259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114800" y="3200400"/>
            <a:ext cx="1600200" cy="459720"/>
            <a:chOff x="4114800" y="3200400"/>
            <a:chExt cx="1600200" cy="459720"/>
          </a:xfrm>
        </p:grpSpPr>
        <p:sp>
          <p:nvSpPr>
            <p:cNvPr id="220" name=""/>
            <p:cNvSpPr/>
            <p:nvPr/>
          </p:nvSpPr>
          <p:spPr>
            <a:xfrm>
              <a:off x="4190760" y="32004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200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65960" y="4190400"/>
            <a:ext cx="5958000" cy="551160"/>
            <a:chOff x="1065960" y="4190400"/>
            <a:chExt cx="5958000" cy="551160"/>
          </a:xfrm>
        </p:grpSpPr>
        <p:cxnSp>
          <p:nvCxnSpPr>
            <p:cNvPr id="223" name=""/>
            <p:cNvCxnSpPr/>
            <p:nvPr/>
          </p:nvCxnSpPr>
          <p:spPr>
            <a:xfrm flipV="1" rot="16200000">
              <a:off x="3883680" y="1372680"/>
              <a:ext cx="322920" cy="5958360"/>
            </a:xfrm>
            <a:prstGeom prst="curvedConnector5">
              <a:avLst>
                <a:gd name="adj1" fmla="val -70870"/>
                <a:gd name="adj2" fmla="val 50000"/>
                <a:gd name="adj3" fmla="val -70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2993760" y="4267080"/>
              <a:ext cx="28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47920" y="4876920"/>
                <a:ext cx="6116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4876920"/>
                <a:ext cx="2146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324480" y="3886200"/>
                <a:ext cx="1189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91520" y="3886200"/>
                <a:ext cx="1373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2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$16,25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350532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384280" y="3505320"/>
                <a:ext cx="196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45120" y="3505320"/>
                <a:ext cx="3376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384280" y="4038480"/>
                <a:ext cx="1959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61000" y="3962520"/>
                <a:ext cx="1962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1447920" y="4648320"/>
            <a:ext cx="6095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72000" y="4648320"/>
                <a:ext cx="100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410080" y="4648320"/>
                <a:ext cx="168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64832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800600" y="518148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94360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95880" y="5181480"/>
                <a:ext cx="73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571500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388120" y="5715000"/>
                <a:ext cx="1417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03200" y="5410080"/>
                <a:ext cx="3924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828800" y="5486400"/>
                <a:ext cx="10047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84080" y="4800600"/>
                <a:ext cx="287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371600" y="6095880"/>
                <a:ext cx="1550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269120" y="6124680"/>
                <a:ext cx="1779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1447920" y="2895480"/>
            <a:ext cx="6116400" cy="777960"/>
            <a:chOff x="1447920" y="2895480"/>
            <a:chExt cx="6116400" cy="7779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1447920" y="2895480"/>
                  <a:ext cx="61164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057400" y="2895480"/>
                  <a:ext cx="21459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2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2-11-19T14:57:18Z</dcterms:modified>
  <cp:revision>116</cp:revision>
  <dc:subject/>
  <dc:title>PowerPoint Presentation</dc:title>
</cp:coreProperties>
</file>